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DE1-C4D0-4AA6-ABB6-B03898B6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F43-2080-432C-AA0C-4BCAA14A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D17-0C54-40ED-BDE9-023AB2BE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C49-A016-4959-B2A3-BC224F9C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B5CB-74F4-4D81-B845-39C9868D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2A1C-800E-4F28-B72A-A79B3342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3EDF-25B6-4493-98B8-945822C8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AE88-4092-4CE0-BCC6-CD3013C3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3D95-75E1-4DC2-A66F-4F44F83D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F4F5-BFD0-4338-914B-4D503739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E305-9C51-4571-BD99-E7CAD4F8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BA1-A022-4E3B-869F-D406DAB2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23AD-81A8-40EF-9C69-5713F680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2B02-0627-4537-8EB0-5DE8E965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316E-6C04-4F2A-9F91-3F8A7B76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5FC8-D8EE-4582-8D4A-A11FE320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9DB7-A645-4B96-B9CA-82BADA05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957-CC5B-4B5C-82C4-3D80D357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E0E-A6E8-40E6-BD35-6373EA7D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18B-06E8-485A-B413-AE4A3281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964-2553-4BDC-BC31-D111DCA2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AD5-2DC9-4868-A594-427C4AC9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872-23E6-49C1-8B21-2DE20A8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B66-899C-4213-9DDA-DFB657B7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426A-19EE-4A92-BFA7-2A59A1686D53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6DB5-1F0F-48D7-BAC6-CBE683246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A271-1FDB-402F-9C92-0D01AB45CF2F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7A5F-2D37-4CFF-93FF-D23ADA09A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el-almsha3er.com/" TargetMode="Externa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eec94"/>
                </a:solidFill>
                <a:latin typeface="Times New Roman"/>
              </a:rPr>
              <a:t>حصريا </a:t>
            </a:r>
            <a:br>
              <a:rPr sz="4800"/>
            </a:br>
            <a:r>
              <a:rPr b="1" lang="ar-SA" sz="4800" spc="-1" strike="noStrike">
                <a:solidFill>
                  <a:srgbClr val="feec94"/>
                </a:solidFill>
                <a:latin typeface="Times New Roman"/>
              </a:rPr>
              <a:t>لمنتديات ظل المشاعر</a:t>
            </a:r>
            <a:br>
              <a:rPr sz="4800"/>
            </a:b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www.del-almsha3er.com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7E6-3121-4DB4-8170-9EC4A7DEC9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351A9-86F9-42E7-8B4C-F8AB0C3F18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71640" y="32040"/>
            <a:ext cx="7632720" cy="68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ماذج للتوقعات الغير متوافقة مع الثقافة العربي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المسافة الاجتما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لغة العي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تقديم الذات ( كيف تقدم نفسك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الدعوة للعشاء  وغير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50B-FAED-4A70-A810-D20DB0DFDDB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A50E8-85BE-4FCB-8083-3B70F0BADF37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358920" y="692280"/>
            <a:ext cx="10190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Times New Roman"/>
              </a:rPr>
              <a:t>مع تمنياتي لكم بالنجاح والتوفيق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Times New Roman"/>
              </a:rPr>
              <a:t>الاستاذ الدكتور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Times New Roman"/>
              </a:rPr>
              <a:t>عبد الله بن عبد العزيز اليوسف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408-BD73-407C-97BD-AD882B97E3E2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6B197-842F-4ED7-B888-2661B74C5939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704880"/>
            <a:ext cx="799308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تهيئة النفسية والاجتماعية للمبتعث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تكيف الاجتماعي في بلاد الغرب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عدا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أستاذ الدكتو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عبد الله بن عبد العزيز اليوس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مستشار اجتماع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برنامج خادم الحرمين الشريفين للابتعا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( ملتقي المبتعثين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من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21/2/1427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ه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ريا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2E2-0048-4955-A130-EF245A02D41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1B008-5416-4CE3-A930-3342A0EFC24E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15800" y="-189360"/>
            <a:ext cx="8332920" cy="72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التكيف الاجتماعي في بلاد الغرب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عتمد التكيف الاجتماعي في بلاد الغربة علي ثلاثة محاور أساسية هي :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– الرموز والمعان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الأدوار والتفاع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– التوقعات والسلو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سوف نشرح كل محور علي ح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EAF-A7EA-4CF7-85F4-F332074F6C2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AA70E-9AC9-42FC-A001-0D483CD44491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1280" y="-28440"/>
            <a:ext cx="7777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6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ل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:- الرموز والمعا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ناك ثلاثة مفاتيح أساسية لهذا المحور وهي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ماذا تعني لي الأشيا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ماذا تعني الأشياء للآخر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هل نحمل نفس الفهم للرم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ماذا يحدث إذا لم نحمل نفس المفهوم للرم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كل ثقافة لها رموزها الثقافية الخاص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470-09DA-4AC5-AF82-3B29B138645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D3DD2-977D-48D1-8ACC-464A3B934B9B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27760"/>
            <a:ext cx="7632720" cy="58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موز دلالات للتواص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مثل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ماذا يرمز الكلب في الثقافة العربية والإسلامية وماذا يرمز في الثقافة الغرب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المصافحة علي الخ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نمط السلا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الدعوة للعشا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لغة العي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- الشكر وغي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BF8-91A5-4D2E-851F-CB8060B1D0FA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75596-0B34-4879-A7CD-F755D64CAD95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-408600"/>
            <a:ext cx="7775280" cy="76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يف نكون مفاهيم حول الأشياء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من خلال التفاعل نضفي معني علي الرمز وبالتالي :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نحب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نكرة وغي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نشكل مفاهمين حول الأشياء في ضوء تفاعلانا م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من خلال التفاعل نشكل  معاني الأشيا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C8F-52E8-4AED-AA57-AB8A1BC4A3C7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97127-6A69-41D1-90E4-0ECB9ACC6E94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560880"/>
            <a:ext cx="82976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ثانيا :- الأدوار والتفاع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كل شخص منا يتوقع أن يلعب دور معين وفي ضوء الدور يحدث التفاع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الأدوار تتغير حسب طبيعة الوضع الاجتماع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اذا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سوف تكون الأدوار في بلاد الغرب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كيف أتفاعل مع تصارع الأدوا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86E-0D9D-4972-B816-E86CA91BD1D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DF977-C63B-4C4D-AC61-E91D4AC46A1E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1280" y="334440"/>
            <a:ext cx="8136000" cy="59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– الأدوار والتفاعل مرتبطة بطبيعة الثقافة تحدد لنا الثقاف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كيف تتفاعل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 – طالب مع أستاذ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 – زوج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ج – مواطن سعود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رؤى نمطية للأدوار . توقعات مسب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23C-6D70-4DF3-A701-BC8BC774FF7D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CF9BE-C8EC-40D9-BE76-1723A09F32DD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-12600"/>
            <a:ext cx="8280360" cy="68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توقعات والسلوك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ماذا أتوقع من الآخر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ماذا يتوقعون الآخرين من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– ماذا يحدث إذا لم تسير الأمور حسب التوقعات الاجتما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ماط من التوقعات والسلو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ثقافة العقلانية ـــــــــــــــــ الثقافة العاطف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خصوصية الثقافية ـــــــــــــــــ العمومية الثقاف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3E6-C88B-4105-9A95-5C2602A3AEB9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6E0E2-D906-4608-88E1-77B32D74CC0F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0:07:10Z</dcterms:created>
  <dc:creator>aaayosef</dc:creator>
  <dc:description/>
  <dc:language>en-US</dc:language>
  <cp:lastModifiedBy>yasser rahep</cp:lastModifiedBy>
  <dcterms:modified xsi:type="dcterms:W3CDTF">2007-03-17T20:57:47Z</dcterms:modified>
  <cp:revision>9</cp:revision>
  <dc:subject/>
  <dc:title>الشريحة 1</dc:title>
</cp:coreProperties>
</file>