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8.png" ContentType="image/png"/>
  <Override PartName="/ppt/media/image5.gif" ContentType="image/gif"/>
  <Override PartName="/ppt/media/image6.png" ContentType="image/png"/>
  <Override PartName="/ppt/media/image7.png" ContentType="image/png"/>
  <Override PartName="/ppt/media/image9.wmf" ContentType="image/x-wmf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C1D-1F41-4076-AF0C-543185A2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F66-FFA1-4367-B39B-59ADE67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160-C5BC-44F9-B739-50E45B340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DB33-59E0-494B-B485-E3187AF0D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C789-0DE9-4052-8F92-D15D93C3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CF97-7EAC-4A92-80BA-D9A8589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8553-E11E-42E2-A112-760D0C4C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86E1-22D1-49BE-82D0-BF3D96A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61DB-0A6D-43CD-B769-01C5F342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759FF-9533-4ED6-9406-43D5C3EF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8B67-554D-4CF7-9459-0AD6F62A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B42-A75B-4228-A644-26E57A12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73431-E5D9-4FFE-B21C-AA7DCB9B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CEBF-2A6A-4353-A1AD-C695EB4E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362C-EB48-42D5-A932-3DD9FEA1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463A-19EE-42D8-9006-28B89553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153A-6542-4163-B29E-3A621EE5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651A-5148-41C5-BEB1-7BD0A06C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B262A-76B8-433A-92EE-D58765E4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A1379-8FA3-4162-BED2-D90AD5C0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C359-0DBD-453B-91CE-7CDE3E4E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FE639-E83E-4F31-BED0-C23A4E5E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6B7-AD3E-4AA4-B92C-8194ABB9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146B-257B-4E57-9E43-123EE868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35079-E713-4A47-B844-5E08FA6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FE49-BB6D-41F8-9004-E2A5D48E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ED76F-D10D-4841-8D32-A3D74E22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437CC-DC37-4100-BA71-2D518026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909C-423E-492D-8E8D-DF7E2B97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D1A4-F407-4A22-9BA1-9FC89867F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DD227-DEB8-4ACF-B8A1-7FA7DFDA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72E74-DCAA-48EE-9967-EA6107B3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3088D-BA81-4EDB-81B6-B3655F39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FBE-F424-490B-BC50-3677FB53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723E5-1681-4E47-B0B0-6C26AE04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760C-7B15-4B50-B28D-357684E5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F060-BE31-4FEB-96DE-FD3C5BC7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AF66D-7D79-40C5-969D-98EA96E7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4EC4-262E-4828-BA7E-BE88DC2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645F-EB43-46A2-AE06-8C56B84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97498-58F8-410D-9048-B1DD62B1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3741D-B3FE-4D6A-BC29-B6CC33D8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92E0F-C87C-423D-BF51-3DEA5141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97840-A32D-41E7-9344-9922BD72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93D-C1F7-4040-A1C1-7AB1CC33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0355-6FE3-4440-86D8-C72C4DD0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C09D6-7FE0-43AF-927A-4B2A420B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C62D2-4F02-4593-B3E1-D3AF67DF1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81F57-C5FB-45BC-AFAA-7DA1566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E562B-4810-483E-AB86-731D35B9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A0D2B-5D3A-4EFE-930D-BC5706D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15DE1-900F-4047-B1BB-5DD91133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02275-BBBC-4D61-A5BE-1E39579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7ECB8-31D9-4317-B447-D238B04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62D3F-7F84-43F6-9380-3352AF5A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E15-0BEE-4354-BA33-DBE73B7C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D37A3-6D44-4E4D-BE9A-75907310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10AC-7572-4746-81CA-24D662FE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06C-A2EB-401C-B588-E8035183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2836-BC0B-4310-9AA8-A3D9BA0F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C754-7D85-499B-AB80-06EFFC539F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5960" y="6021360"/>
            <a:ext cx="19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حدد هدف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337800" y="333360"/>
            <a:ext cx="206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66"/>
                </a:solidFill>
                <a:latin typeface="Arial"/>
              </a:rPr>
              <a:t>ورشة 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9943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3921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68B5-CEDD-4AE3-8AD5-3990491C16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dt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DE06-21A1-4E7B-A80D-DEC18ABFA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646200" indent="-24840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2" marL="9943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3" marL="13921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4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b2b2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5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6" marL="1789920" indent="-19872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0EE-1A28-4F9A-92FD-8B3334A9EE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72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2A4E-6B47-466D-AC55-D7059DE4A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  <a:p>
            <a:pPr lvl="1" marL="457200" indent="0" algn="ctr" rtl="1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  <a:p>
            <a:pPr lvl="2" marL="914400" algn="ctr" rtl="1">
              <a:lnSpc>
                <a:spcPct val="130000"/>
              </a:lnSpc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  <a:p>
            <a:pPr lvl="3" marL="1371600" algn="ctr" rtl="1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  <a:p>
            <a:pPr lvl="4" marL="1828800" algn="ctr" rtl="1">
              <a:lnSpc>
                <a:spcPct val="130000"/>
              </a:lnSpc>
              <a:spcBef>
                <a:spcPts val="499"/>
              </a:spcBef>
              <a:buClr>
                <a:srgbClr val="b2b2b2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del-almsha3er.com/" TargetMode="External"/><Relationship Id="rId3" Type="http://schemas.openxmlformats.org/officeDocument/2006/relationships/slideLayout" Target="../slideLayouts/slideLayout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38120" y="-3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8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000" spc="-1" strike="noStrike">
                <a:solidFill>
                  <a:srgbClr val="b2b2b2"/>
                </a:solidFill>
                <a:latin typeface="Arial"/>
              </a:rPr>
              <a:t>حصريا </a:t>
            </a:r>
            <a:br>
              <a:rPr sz="7000"/>
            </a:br>
            <a:r>
              <a:rPr b="0" lang="ar-SA" sz="7000" spc="-1" strike="noStrike">
                <a:solidFill>
                  <a:srgbClr val="b2b2b2"/>
                </a:solidFill>
                <a:latin typeface="Arial"/>
              </a:rPr>
              <a:t>لمنتديات ظل المشاعر</a:t>
            </a:r>
            <a:br>
              <a:rPr sz="7000"/>
            </a:br>
            <a:r>
              <a:rPr b="0" lang="en-US" sz="5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del-almsha3er.com</a:t>
            </a:r>
            <a:endParaRPr b="0" lang="en-US" sz="5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6360" y="1341360"/>
            <a:ext cx="91440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في الواقع أن ذلك لا يرجع إلى نقص في إمكانياتهم الشخصية، ولكن يعود إلى الأسباب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-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لا 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ماذا يريدون بالتحديد وبالتالي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لا 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كيف يصل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-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ماذا يريدون ولكن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لا 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كيف يصلو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-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ماذا يريدون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ويعرفو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كيف يصلون </a:t>
            </a:r>
            <a:r>
              <a:rPr b="1" lang="ar-SA" sz="3200" spc="-1" strike="noStrike">
                <a:solidFill>
                  <a:srgbClr val="ff3300"/>
                </a:solidFill>
                <a:latin typeface="Arial"/>
                <a:cs typeface="Arabic Transparent"/>
              </a:rPr>
              <a:t>ولكن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  <a:ea typeface="Arabic Transparent"/>
              </a:rPr>
              <a:t> لا يؤمنون بأنه في استطاعتهم تحقيق ما يريدونه من أهدا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584360"/>
            <a:ext cx="914400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Tahoma"/>
              </a:rPr>
              <a:t>وهناك نوع رابع ... وهم رائعون لأنه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يعرفون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ماذا يريدون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ويعرفون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كيف يصلون </a:t>
            </a:r>
            <a:r>
              <a:rPr b="0" lang="hi-IN" sz="3600" spc="-1" strike="noStrike">
                <a:solidFill>
                  <a:srgbClr val="ff3300"/>
                </a:solidFill>
                <a:latin typeface="Arial"/>
              </a:rPr>
              <a:t>ويبدءون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بالعمل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005360"/>
            <a:ext cx="4464000" cy="17398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2b2b2"/>
                </a:solidFill>
                <a:latin typeface="Tahoma"/>
                <a:cs typeface="Arabic Transparent"/>
              </a:rPr>
              <a:t>فمن أي نوع أنت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2730600" cy="2736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43280" y="1802880"/>
            <a:ext cx="4321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66"/>
                </a:solidFill>
                <a:latin typeface="Arial"/>
                <a:cs typeface="Arabic Transparent"/>
              </a:rPr>
              <a:t>من يقود حياتك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9280" y="3573360"/>
            <a:ext cx="8785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b2b2b2"/>
                </a:solidFill>
                <a:latin typeface="Arial"/>
                <a:cs typeface="Arabic Transparent"/>
              </a:rPr>
              <a:t>من الذين يكون لهم دور في القرارات التي يتخذها الشخص أو الأهداف التي يسعى إليها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9280" y="1052640"/>
            <a:ext cx="87854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66"/>
                </a:solidFill>
                <a:latin typeface="Arial"/>
                <a:cs typeface="Arabic Transparent"/>
              </a:rPr>
              <a:t>من يفعل ذلك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abic Transparent"/>
              </a:rPr>
              <a:t>              </a:t>
            </a:r>
            <a:r>
              <a:rPr b="0" lang="hi-IN" sz="2400" spc="-1" strike="noStrike">
                <a:solidFill>
                  <a:srgbClr val="ffff00"/>
                </a:solidFill>
                <a:latin typeface="Arial"/>
                <a:cs typeface="Arabic Transparent"/>
              </a:rPr>
              <a:t>ربما ...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أهل (الوالدين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abic Transparent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abic Transparent"/>
              </a:rPr>
              <a:t>    </a:t>
            </a:r>
            <a:r>
              <a:rPr b="0" lang="hi-IN" sz="2400" spc="-1" strike="noStrike">
                <a:solidFill>
                  <a:srgbClr val="ffff00"/>
                </a:solidFill>
                <a:latin typeface="Arial"/>
                <a:cs typeface="Arabic Transparent"/>
              </a:rPr>
              <a:t>ربما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أصد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abic Transparent"/>
              </a:rPr>
              <a:t>              </a:t>
            </a:r>
            <a:r>
              <a:rPr b="0" lang="hi-IN" sz="2400" spc="-1" strike="noStrike">
                <a:solidFill>
                  <a:srgbClr val="ffff00"/>
                </a:solidFill>
                <a:latin typeface="Arial"/>
                <a:cs typeface="Arabic Transparent"/>
              </a:rPr>
              <a:t>ربما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مجتم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  <a:ea typeface="Arabic Transparent"/>
              </a:rPr>
              <a:t>              </a:t>
            </a:r>
            <a:r>
              <a:rPr b="0" lang="hi-IN" sz="2400" spc="-1" strike="noStrike">
                <a:solidFill>
                  <a:srgbClr val="ffff00"/>
                </a:solidFill>
                <a:latin typeface="Arial"/>
                <a:cs typeface="Arabic Transparent"/>
              </a:rPr>
              <a:t>ربما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إعلام (في اليوم تتلقى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Arabic Transparent"/>
              </a:rPr>
              <a:t>27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Arabic Transparent"/>
              </a:rPr>
              <a:t> ألف رسالة إعلان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abic Transparent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Arabic Transparent"/>
              </a:rPr>
              <a:t>	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  <a:ea typeface="Arabic Transparent"/>
              </a:rPr>
              <a:t>   </a:t>
            </a:r>
            <a:r>
              <a:rPr b="0" lang="hi-IN" sz="2400" spc="-1" strike="noStrike">
                <a:solidFill>
                  <a:srgbClr val="ffff00"/>
                </a:solidFill>
                <a:latin typeface="Arial"/>
                <a:cs typeface="Arabic Transparent"/>
              </a:rPr>
              <a:t>ربما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نظ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07600"/>
            <a:ext cx="8964720" cy="25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hi-IN" sz="2800" spc="-1" strike="noStrike">
                <a:solidFill>
                  <a:srgbClr val="b2b2b2"/>
                </a:solidFill>
                <a:latin typeface="Arial"/>
              </a:rPr>
              <a:t>في أحد المؤتمرات قدم ورقة عمل عن وسائل النجاح، دخل المحاضر وقال:</a:t>
            </a:r>
            <a:br>
              <a:rPr sz="3200"/>
            </a:br>
            <a:br>
              <a:rPr sz="3200"/>
            </a:b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لتكونوا ناجحين أنتم بحاجة إلى تذكر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أشياء فق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1280" y="2924280"/>
            <a:ext cx="8964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أن تعرف ما الذي تريده (أي تقوم بتحديد هدفك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أن تكون واعي لما يجري من حولك وحاضر الذهن ومتاب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 algn="r" rtl="1">
              <a:spcBef>
                <a:spcPts val="799"/>
              </a:spcBef>
              <a:buClr>
                <a:srgbClr val="ffff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أن تكون مرن للتغيير المستمر الذي يطرأ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Arial"/>
              </a:rPr>
              <a:t>ثم كتب (الهدف – الوعي – المرونة) وغادر القا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2711160"/>
            <a:ext cx="8229600" cy="11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</a:rPr>
              <a:t>السوبر مارك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06400" y="67608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ما الذي سنخسره عندما لا نضع أهداف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2b2b2"/>
                </a:solidFill>
                <a:latin typeface="Arial"/>
              </a:rPr>
              <a:t>وقت – مال – جهد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1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2b2b2"/>
                </a:solidFill>
                <a:latin typeface="Arial"/>
              </a:rPr>
              <a:t>قدرة المجتمع على الاستمرار والنمو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1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2b2b2"/>
                </a:solidFill>
                <a:latin typeface="Arial"/>
              </a:rPr>
              <a:t>المشاكل النفسي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spcBef>
                <a:spcPts val="10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2b2b2"/>
                </a:solidFill>
                <a:latin typeface="Arial"/>
              </a:rPr>
              <a:t>هل تختار الألم الناتج عن النظام أم الناتج عن الندم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47640" y="2565360"/>
            <a:ext cx="633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00"/>
                </a:solidFill>
                <a:latin typeface="Tahoma"/>
                <a:cs typeface="Arabic Transparent"/>
              </a:rPr>
              <a:t>نبدأ التطبي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rial"/>
                <a:cs typeface="Arabic Transparent"/>
              </a:rPr>
              <a:t>نموذج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  <a:ea typeface="Arabic Transparent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  <a:cs typeface="Simplified Arabic"/>
              </a:rPr>
              <a:t>الأهدا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2b2b2"/>
                </a:solidFill>
                <a:latin typeface="Arial"/>
              </a:rPr>
              <a:t> </a:t>
            </a:r>
            <a:r>
              <a:rPr b="1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مراحل تحقيق الأهدا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ea typeface="Simplified Arab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وضع الأهدا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تقسيم الأهداف لأجزاء أصغر يمكن تطبيق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تقييم الأهداف من وجهة نظر ”الأولويات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تنفيذ المهام خلال الوقت المحد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79380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  <a:ea typeface="Arabic Transparent"/>
              </a:rPr>
              <a:t> حـدد هـدف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-34920" y="5805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b2b2b2"/>
                </a:solidFill>
                <a:latin typeface="Tahoma"/>
                <a:cs typeface="Simplified Arabic"/>
              </a:rPr>
              <a:t>سعد محمد الحمود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09960" y="4869000"/>
            <a:ext cx="12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b2b2b2"/>
                </a:solidFill>
                <a:latin typeface="Tahoma"/>
                <a:cs typeface="Arabic Transparent"/>
              </a:rPr>
              <a:t>تقدي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920" y="749160"/>
            <a:ext cx="8640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00"/>
                </a:solidFill>
                <a:latin typeface="Arial"/>
                <a:cs typeface="Arabic Transparent"/>
              </a:rPr>
              <a:t>الهدف السليم يتميز بالميمات الـ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abic Transparent"/>
              </a:rPr>
              <a:t>6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Arabic Transparent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19120" y="1871640"/>
            <a:ext cx="4916520" cy="42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حد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كت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ؤق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با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718920" algn="r" rtl="1">
              <a:lnSpc>
                <a:spcPct val="125000"/>
              </a:lnSpc>
              <a:spcBef>
                <a:spcPts val="799"/>
              </a:spcBef>
              <a:buClr>
                <a:srgbClr val="b2b2b2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b2b2b2"/>
                </a:solidFill>
                <a:latin typeface="Arial"/>
                <a:cs typeface="Arabic Transparent"/>
              </a:rPr>
              <a:t>مقا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نموذج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  <a:cs typeface="Simplified Arabic"/>
              </a:rPr>
              <a:t>أهمية التوازن في الحي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2997000"/>
            <a:ext cx="91090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2b2b2"/>
                </a:solidFill>
                <a:latin typeface="Arial"/>
                <a:ea typeface="Simplified Arabic"/>
              </a:rPr>
              <a:t> إن للحياة جوانب عديدة ولذلك لا بد من أن تكون أهدافك شامل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cs typeface="Simplified Arabic"/>
              </a:rPr>
              <a:t>فمثلا ما فائدة نجاح في الجانب الوظيفي وفشل في الجانب الأسري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340000" y="981000"/>
            <a:ext cx="5184720" cy="51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5317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عندما تضع هدف معين اسأل نفس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4360" y="205092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هل فعلاً أريد هذا الهدف؟ أم أنها نزوة أو شهوة تعتريني لفتر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لو كنت فعلاً أريد هذا الهدف هل أنا مستعد لدفع الثمن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لو كنت مستعد لدفع الثمن .. ماذا ينقصني من أدوات ومهارات للحصول على هذا الهد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ما الفوائد التي سأجنيها من تحقيق هذا الهد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ارجع لنموذج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Arial"/>
              </a:rPr>
              <a:t>نموذج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9480" y="604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ما هي العوامل المساعدة على تحقيق الهدف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761840"/>
            <a:ext cx="89647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لتركيز (دائرتي التأثير والاهتما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لصبر .. لأن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70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% من الأشخاص يتنازلون عن أهدافهم عندما تواجههم بعض العقب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لمهارات والأدو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لرغبة .. لأن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35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% من الأشخاص الذين لديهم أهداف محددة، تلك الأهداف لا تعكس القيم التي يؤمنون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هل ما أكرس له حياتي هذه الفترة يستح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هل ما أكرس له حياتي هو بالفعل ما أريده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7491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00"/>
                </a:solidFill>
                <a:latin typeface="Arial"/>
              </a:rPr>
              <a:t>أخطاء تواجه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8000" y="1915920"/>
            <a:ext cx="8964720" cy="45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يقاف الحياة على أحداث معي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وضع أهداف كثيرة في وقت قص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عندما لا تحقق هدف معين .. اسأل نفس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هل الوقت كان غير مناسب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هل الطريقة كانت غير مناسبة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لمقارن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اسعى لاختيار العمل الصحيح ومن ثم فكر بالطريقة الصحي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Arial"/>
                <a:cs typeface="Arabic Transparent"/>
              </a:rPr>
              <a:t>الرسالة وَ الرؤية: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Arabic Transparen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226692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الرسالة: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تعبير بمقصد الإنسان وغايته  في الحياة التي يستمر بعملها حتى يلقى ال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  <a:cs typeface="Simplified Arabic"/>
              </a:rPr>
              <a:t>الرؤية: صورة ذهنية لحصيلة أو نتيجة مستقبلية لما يريد الإنس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340000" y="2492280"/>
            <a:ext cx="619272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500"/>
              </a:spcBef>
              <a:buClr>
                <a:srgbClr val="b2b2b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2b2b2"/>
                </a:solidFill>
                <a:latin typeface="Tahoma"/>
                <a:cs typeface="Arabic Transparent"/>
              </a:rPr>
              <a:t>الأوقات</a:t>
            </a:r>
            <a:r>
              <a:rPr b="0" lang="en-US" sz="4000" spc="-1" strike="noStrike">
                <a:solidFill>
                  <a:srgbClr val="b2b2b2"/>
                </a:solidFill>
                <a:latin typeface="Tahoma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spcBef>
                <a:spcPts val="2500"/>
              </a:spcBef>
              <a:buClr>
                <a:srgbClr val="b2b2b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2b2b2"/>
                </a:solidFill>
                <a:latin typeface="Tahoma"/>
                <a:cs typeface="Arabic Transparent"/>
              </a:rPr>
              <a:t>الأسئلة </a:t>
            </a:r>
            <a:r>
              <a:rPr b="0" lang="en-US" sz="4000" spc="-1" strike="noStrike">
                <a:solidFill>
                  <a:srgbClr val="b2b2b2"/>
                </a:solidFill>
                <a:latin typeface="Tahoma"/>
                <a:ea typeface="Arabic Transparen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1484280"/>
            <a:ext cx="237492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66"/>
                </a:solidFill>
                <a:latin typeface="Arial"/>
                <a:cs typeface="Arabic Transparent"/>
              </a:rPr>
              <a:t>اتـفـا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1008360" cy="880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4643280" y="3860640"/>
            <a:ext cx="1008360" cy="8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ff00"/>
                </a:solidFill>
                <a:latin typeface="Arial"/>
                <a:cs typeface="Arabic Transparent"/>
              </a:rPr>
              <a:t>إدارة 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bebeb"/>
                </a:solidFill>
                <a:latin typeface="Arial"/>
                <a:cs typeface="DecoType Naskh"/>
              </a:rPr>
              <a:t>الأولويا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0" y="4221000"/>
            <a:ext cx="417528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استقبال مكالمة هاتفية (سوالف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حضور شخص دون موعد بغير هد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تحقيق مصالح للآخر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4221000"/>
            <a:ext cx="403236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لعب الور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مشاهدة التلفزيو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الدوران في الشوار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0" y="1989000"/>
            <a:ext cx="41752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b2b2b2"/>
                </a:solidFill>
                <a:latin typeface="Arial"/>
              </a:rPr>
              <a:t>السفر بعد ساعتي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b2b2b2"/>
                </a:solidFill>
                <a:latin typeface="Arial"/>
              </a:rPr>
              <a:t>الصلاة عندما يؤذن المؤذ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b2b2b2"/>
                </a:solidFill>
                <a:latin typeface="Arial"/>
              </a:rPr>
              <a:t>تسليم تقرير غداً صباح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- الاختبار غد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39640" y="2205000"/>
            <a:ext cx="403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الاختبار بعد شه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الذهاب في رحل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التخطيط لبناء منز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شراء سي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مراجعة طبيب الأسن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601"/>
              </a:spcBef>
              <a:buClr>
                <a:srgbClr val="b2b2b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9640" y="1989000"/>
            <a:ext cx="8209080" cy="3600360"/>
            <a:chOff x="539640" y="1989000"/>
            <a:chExt cx="8209080" cy="3600360"/>
          </a:xfrm>
        </p:grpSpPr>
        <p:sp>
          <p:nvSpPr>
            <p:cNvPr id="266" name=""/>
            <p:cNvSpPr/>
            <p:nvPr/>
          </p:nvSpPr>
          <p:spPr>
            <a:xfrm>
              <a:off x="539640" y="4047120"/>
              <a:ext cx="820908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3440" y="1989000"/>
              <a:ext cx="0" cy="3600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539640" y="1989000"/>
              <a:ext cx="8209080" cy="3600000"/>
              <a:chOff x="539640" y="1989000"/>
              <a:chExt cx="8209080" cy="3600000"/>
            </a:xfrm>
          </p:grpSpPr>
          <p:sp>
            <p:nvSpPr>
              <p:cNvPr id="269" name=""/>
              <p:cNvSpPr/>
              <p:nvPr/>
            </p:nvSpPr>
            <p:spPr>
              <a:xfrm>
                <a:off x="539640" y="1989000"/>
                <a:ext cx="8209080" cy="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9640" y="5589000"/>
                <a:ext cx="8209080" cy="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39640" y="1989000"/>
                <a:ext cx="0" cy="360000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748720" y="1989000"/>
                <a:ext cx="0" cy="360000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6227640" y="15573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عا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06560" y="1557360"/>
            <a:ext cx="13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غير عا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8589600" y="24807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8299440" y="442116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غير 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56960" y="5869080"/>
            <a:ext cx="67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b2b2b2"/>
                </a:solidFill>
                <a:latin typeface="Tahoma"/>
              </a:rPr>
              <a:t>إذا كانت الأنشطة في المربعين التي في الأسفل كثيرة ألغي م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ebebeb"/>
                </a:solidFill>
                <a:latin typeface="Arial"/>
                <a:cs typeface="DecoType Naskh"/>
              </a:rPr>
              <a:t>إدارة الوق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24000" y="1989000"/>
            <a:ext cx="8208720" cy="3527640"/>
            <a:chOff x="324000" y="1989000"/>
            <a:chExt cx="8208720" cy="3527640"/>
          </a:xfrm>
        </p:grpSpPr>
        <p:sp>
          <p:nvSpPr>
            <p:cNvPr id="280" name=""/>
            <p:cNvSpPr/>
            <p:nvPr/>
          </p:nvSpPr>
          <p:spPr>
            <a:xfrm>
              <a:off x="324000" y="4005360"/>
              <a:ext cx="82087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57440" y="1989000"/>
              <a:ext cx="0" cy="3527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324000" y="1989000"/>
              <a:ext cx="8208720" cy="3527640"/>
              <a:chOff x="324000" y="1989000"/>
              <a:chExt cx="8208720" cy="352764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1989000"/>
                <a:ext cx="8208720" cy="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24000" y="5516640"/>
                <a:ext cx="8208720" cy="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24000" y="1989000"/>
                <a:ext cx="0" cy="352764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532720" y="1989000"/>
                <a:ext cx="0" cy="3527640"/>
              </a:xfrm>
              <a:prstGeom prst="line">
                <a:avLst/>
              </a:prstGeom>
              <a:ln cap="sq"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/>
          <p:nvPr/>
        </p:nvSpPr>
        <p:spPr>
          <a:xfrm>
            <a:off x="6012000" y="1557360"/>
            <a:ext cx="86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عا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90560" y="1557360"/>
            <a:ext cx="12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 غير عاج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8373600" y="24807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5400000">
            <a:off x="8047800" y="4458600"/>
            <a:ext cx="115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Tahoma"/>
              </a:rPr>
              <a:t>غير 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99880" y="5869080"/>
            <a:ext cx="67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b2b2b2"/>
                </a:solidFill>
                <a:latin typeface="Tahoma"/>
              </a:rPr>
              <a:t>إذا كانت الأنشطة في المربعين التي في الأسفل كثيرة ألغي منه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66880" cy="1467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5076720" y="2205000"/>
            <a:ext cx="2808360" cy="15112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مسو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205000"/>
            <a:ext cx="2880000" cy="15112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مخط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03640" y="4292640"/>
            <a:ext cx="3095640" cy="100800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إمع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292640"/>
            <a:ext cx="3097080" cy="108108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  <a:cs typeface="Arabic Transparent"/>
              </a:rPr>
              <a:t>المه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30600" y="1207800"/>
            <a:ext cx="1882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ff66"/>
                </a:solidFill>
                <a:latin typeface="Arial"/>
                <a:cs typeface="DecoType Naskh"/>
              </a:rPr>
              <a:t>التخطي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3857760"/>
            <a:ext cx="842472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b2b2b2"/>
                </a:solidFill>
                <a:latin typeface="Tahoma"/>
                <a:ea typeface="Arabic Transparent"/>
              </a:rPr>
              <a:t> كل جمعة في المساء خذ </a:t>
            </a:r>
            <a:r>
              <a:rPr b="0" lang="ar-SA" sz="2400" spc="-1" strike="noStrike">
                <a:solidFill>
                  <a:srgbClr val="b2b2b2"/>
                </a:solidFill>
                <a:latin typeface="Tahoma"/>
                <a:ea typeface="Arabic Transparent"/>
              </a:rPr>
              <a:t>10</a:t>
            </a:r>
            <a:r>
              <a:rPr b="0" lang="ar-SA" sz="2400" spc="-1" strike="noStrike">
                <a:solidFill>
                  <a:srgbClr val="b2b2b2"/>
                </a:solidFill>
                <a:latin typeface="Tahoma"/>
                <a:ea typeface="Arabic Transparent"/>
              </a:rPr>
              <a:t> دقائق لتخطيط الأسبوع القادم وَ </a:t>
            </a:r>
            <a:r>
              <a:rPr b="0" lang="ar-SA" sz="2400" spc="-1" strike="noStrike">
                <a:solidFill>
                  <a:srgbClr val="b2b2b2"/>
                </a:solidFill>
                <a:latin typeface="Tahoma"/>
                <a:ea typeface="Arabic Transparent"/>
              </a:rPr>
              <a:t>10</a:t>
            </a:r>
            <a:r>
              <a:rPr b="0" lang="ar-SA" sz="2400" spc="-1" strike="noStrike">
                <a:solidFill>
                  <a:srgbClr val="b2b2b2"/>
                </a:solidFill>
                <a:latin typeface="Tahoma"/>
                <a:ea typeface="Arabic Transparent"/>
              </a:rPr>
              <a:t> دقائق لمراجعة الأسبوع الماضي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619280" y="2546280"/>
            <a:ext cx="61308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66"/>
                </a:solidFill>
                <a:latin typeface="Arial"/>
                <a:cs typeface="Arabic Transparent"/>
              </a:rPr>
              <a:t>اقترح عليكم أن تتبعوا منهج </a:t>
            </a:r>
            <a:r>
              <a:rPr b="1" lang="hi-IN" sz="3200" spc="-1" strike="noStrike">
                <a:solidFill>
                  <a:srgbClr val="ffff66"/>
                </a:solidFill>
                <a:latin typeface="Arial"/>
                <a:cs typeface="Arabic Transparent"/>
              </a:rPr>
              <a:t>التخطيط الأسبوع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50920" y="863640"/>
            <a:ext cx="1892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 flipH="1">
            <a:off x="7086240" y="3571920"/>
            <a:ext cx="438120" cy="32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5364000" y="3284640"/>
            <a:ext cx="438480" cy="2174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364000" y="3716280"/>
            <a:ext cx="438480" cy="2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2995560"/>
            <a:ext cx="3600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أمور أخطط لها وأقوم ب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-181080" y="3933720"/>
            <a:ext cx="4248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Arial"/>
              </a:rPr>
              <a:t>أمور يستطيع الآخرين القيام بها أفوض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96000" y="1112760"/>
            <a:ext cx="99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Tahoma"/>
              </a:rPr>
              <a:t>- التخطيط الأسبوعي سيكون بالشكل التالي:</a:t>
            </a: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69080" y="3355920"/>
            <a:ext cx="1150920" cy="94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</a:rPr>
              <a:t>الأهدا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940360" y="3355920"/>
            <a:ext cx="1079640" cy="94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</a:rPr>
              <a:t>الخط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67280" y="2924280"/>
            <a:ext cx="1224000" cy="94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Tahoma"/>
              </a:rPr>
              <a:t>الجدو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067280" y="3932280"/>
            <a:ext cx="1224000" cy="8254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Tahoma"/>
              </a:rPr>
              <a:t>التفوي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3534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66"/>
                </a:solidFill>
                <a:latin typeface="Arial"/>
              </a:rPr>
              <a:t>اسأل نفسك ...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3200" spc="-1" strike="noStrike">
                <a:solidFill>
                  <a:srgbClr val="b2b2b2"/>
                </a:solidFill>
                <a:latin typeface="Arial"/>
              </a:rPr>
              <a:t>ما الأشياء الأكثر أهمية التي أريد القيام بها هذا الأسبوع؟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..............................................................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..............................................................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.............................................................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897200" y="2868480"/>
            <a:ext cx="51228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</a:rPr>
              <a:t>نموذج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468360" y="1197000"/>
          <a:ext cx="8362800" cy="4537080"/>
        </p:xfrm>
        <a:graphic>
          <a:graphicData uri="http://schemas.openxmlformats.org/drawingml/2006/table">
            <a:tbl>
              <a:tblPr/>
              <a:tblGrid>
                <a:gridCol w="4181400"/>
                <a:gridCol w="4181400"/>
              </a:tblGrid>
              <a:tr h="16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فرد في أسر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طال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4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  <a:tr h="145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دور: 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1800" spc="-1" strike="noStrike">
                          <a:solidFill>
                            <a:srgbClr val="b2b2b2"/>
                          </a:solidFill>
                          <a:latin typeface="Arial"/>
                          <a:cs typeface="Arabic Transparent"/>
                        </a:rPr>
                        <a:t>الأعمال الأساسية لهذا الأسبو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buClr>
                          <a:srgbClr val="b2b2b2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2b2b2"/>
                          </a:solidFill>
                          <a:latin typeface="Arial"/>
                          <a:ea typeface="Arabic Transparent"/>
                        </a:rPr>
                        <a:t>.........................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27280" y="213372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00"/>
                </a:solidFill>
                <a:latin typeface="Tahoma"/>
                <a:cs typeface="Arabic Transparent"/>
              </a:rPr>
              <a:t>للتواص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16000" y="342900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sa3ad_m@hotmai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71640" y="1700280"/>
            <a:ext cx="72738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2b2b2"/>
                </a:solidFill>
                <a:latin typeface="Tahoma"/>
                <a:cs typeface="Arabic Transparent"/>
              </a:rPr>
              <a:t>سبحانك اللهم وبحمدك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2b2b2"/>
                </a:solidFill>
                <a:latin typeface="Tahoma"/>
                <a:cs typeface="Arabic Transparent"/>
              </a:rPr>
              <a:t>أشهد أن لا إله إلا أنت .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b2b2b2"/>
                </a:solidFill>
                <a:latin typeface="Tahoma"/>
                <a:cs typeface="Arabic Transparent"/>
              </a:rPr>
              <a:t>أستغـفرك وأتوب إليك 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8000" y="1844640"/>
            <a:ext cx="2519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الأهدا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3860640"/>
            <a:ext cx="2519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الوق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3789360"/>
            <a:ext cx="2519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000000"/>
                </a:solidFill>
                <a:latin typeface="Arial"/>
              </a:rPr>
              <a:t>الاتصا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5960" y="1925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b2b2b2"/>
                </a:solidFill>
                <a:latin typeface="Arial"/>
                <a:cs typeface="Arabic Transparent"/>
              </a:rPr>
              <a:t>السؤال الكبير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rial"/>
                <a:cs typeface="Arabic Transparent"/>
              </a:rPr>
              <a:t>ماذا أريد من هذه الحياة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771640" y="836640"/>
            <a:ext cx="604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ff00"/>
                </a:solidFill>
                <a:latin typeface="Arial"/>
              </a:rPr>
              <a:t>لماذا هذه الورشة مهمة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1916280"/>
            <a:ext cx="8460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أجريت دراسة في جامعة ستانفورد عام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1952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م على مجموعة من الطلاب، وكانت مدتها ما يقارب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20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سنة، وخلصوا إلى بعض النتائج أهمها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-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2%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فقط من الطلاب كتبوا أهدافا محددة لحي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-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10%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زعموا أن لهم أهداف لكن لم يكتبو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- أما الباقين فلم يكن لهم أهدا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بعد عشرين عاما وجدوا أن الـ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% الذين كتبوا أهدافهم كان عندهم ثروة أكثر من الـ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90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% الباق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700280"/>
            <a:ext cx="914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b2b2b2"/>
                </a:solidFill>
                <a:latin typeface="Arial"/>
              </a:rPr>
              <a:t>قمت عام </a:t>
            </a:r>
            <a:r>
              <a:rPr b="1" lang="ar-SA" sz="3200" spc="-1" strike="noStrike">
                <a:solidFill>
                  <a:srgbClr val="b2b2b2"/>
                </a:solidFill>
                <a:latin typeface="Arial"/>
              </a:rPr>
              <a:t>2003</a:t>
            </a:r>
            <a:r>
              <a:rPr b="1" lang="ar-SA" sz="3200" spc="-1" strike="noStrike">
                <a:solidFill>
                  <a:srgbClr val="b2b2b2"/>
                </a:solidFill>
                <a:latin typeface="Arial"/>
              </a:rPr>
              <a:t>م بإجراء بحث على طلاب جامعة الملك سعود بالرياض .. وكانت النتائج على النحو 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60%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من الطلاب ليس لديهم أهدا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56%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من الطلاب اجابوا بأنه ليس هناك تخطيط وإنما الحياة تعود إلى الحظ والصد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60%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لديهم وقت فراغ يزيد عن 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b2b2b2"/>
                </a:solidFill>
                <a:latin typeface="Arial"/>
              </a:rPr>
              <a:t> ساعات يومي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2195640" y="1125360"/>
            <a:ext cx="5256000" cy="5256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-636840" y="915840"/>
            <a:ext cx="105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Tahoma"/>
                <a:cs typeface="Arabic Transparent"/>
              </a:rPr>
              <a:t>الهدف: هو نتيجة نريد الحصول عليها أو تحقيق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11280" y="1371600"/>
            <a:ext cx="813600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ffff00"/>
                </a:solidFill>
                <a:latin typeface="Arial"/>
              </a:rPr>
              <a:t>لماذا لا يحقق الشخص أهدافه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73996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ff00"/>
                </a:solidFill>
                <a:latin typeface="Arial"/>
                <a:cs typeface="Arabic Transparent"/>
              </a:rPr>
              <a:t>يقف بعض الناس أحياناً مكتوفي الأيدي أمام تحديات الحياة ويقضون معظم وقتهم في سؤال أنفسه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8276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لماذا لا أستطيع تحقيق ما أريده من أهداف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20:24:16Z</dcterms:created>
  <dc:creator>saad</dc:creator>
  <dc:description/>
  <dc:language>en-US</dc:language>
  <cp:lastModifiedBy>yasser rahep</cp:lastModifiedBy>
  <dcterms:modified xsi:type="dcterms:W3CDTF">2007-03-17T20:49:29Z</dcterms:modified>
  <cp:revision>6</cp:revision>
  <dc:subject/>
  <dc:title>الشريحة 1</dc:title>
</cp:coreProperties>
</file>